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033-F88B-4BCE-BF46-BB02A1FA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BEE-0D2D-45D2-9D9E-15CFDDE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0D8-CAB5-4109-B1E7-E25DEE7E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553-C53C-465F-9C8D-638C6929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1B3-00DA-423A-9640-6A04816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DA5-4CF2-4135-A7F2-F948A3E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8E7-D984-4CE2-8761-6D7E0777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A87-DE1D-4575-9D93-51088C22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3AA5-B131-4CAA-98EE-94489B3E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0F1-F5ED-40C4-A494-9A39B52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331-06E5-43E3-81B7-9F00DEE8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496-11F9-4D35-86FA-DD768AC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CDCB-DD32-4416-93A4-867654FE536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3" descr="euskladi_template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2" name="Slika 3" descr="euskladi_template1.bmp"/>
          <p:cNvPicPr/>
          <p:nvPr/>
        </p:nvPicPr>
        <p:blipFill>
          <a:blip r:embed="rId3"/>
          <a:stretch/>
        </p:blipFill>
        <p:spPr>
          <a:xfrm>
            <a:off x="2700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4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44" name="Pravokotnik 2"/>
          <p:cNvSpPr/>
          <p:nvPr/>
        </p:nvSpPr>
        <p:spPr>
          <a:xfrm>
            <a:off x="644400" y="2362320"/>
            <a:ext cx="7545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  <a:ea typeface="Arial"/>
              </a:rPr>
              <a:t>SKUPINA ZA PRESOJO SKLADNOSTI PROJEKTOV Z DIREKTIVO O P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otnik 3"/>
          <p:cNvSpPr/>
          <p:nvPr/>
        </p:nvSpPr>
        <p:spPr>
          <a:xfrm>
            <a:off x="934920" y="46656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dstavitev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otnik 4"/>
          <p:cNvSpPr/>
          <p:nvPr/>
        </p:nvSpPr>
        <p:spPr>
          <a:xfrm>
            <a:off x="1100160" y="5673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maj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11280" y="2144880"/>
            <a:ext cx="7921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zadje delovanja skup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Opis postopka pregleda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Načrt izvajanja aktivnosti za leto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365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zad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1445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EK z dne 20.6.2013: RS, naj zagotovi skladnost svoje zakonodaje s standardi EU za P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DG Regio z dne 21.8.2013: OU, naj skupaj z okoljskimi organi pripravi smernice za presojo proj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  <a:ea typeface="Arial"/>
              </a:rPr>
              <a:t>Dopis OU z dne 30.9.2013: napoved imenovanja medresorske delovne skupine (formalno imenovanje na vladi 24.4.201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172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Skupina pregleduje vse „infrastrukturne“ projekte v okviru OP ROPI in OP 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1. korak: zbiranje podatkov oz. priprava seznama infrastrukturni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2. korak: filtriranje podat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ki imajo izvedeno PVO (projekti iz priloge I direktive o P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ločitev projektov, za katere niti PVO niti “screening” nista zahtevani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3. korak: podrobnejši pregled filtriranih projektov na osnovi meril iz priloge III direktive o P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Opis postopka pregleda projekto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odrobnejši pregled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. faza: pregled projektov OP ROPI (pregled opravljajo izključno člani skupine v sodelovanju z upravičenc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. faza: pregled ostalih projektov se opravi v sodelovanju z zunanjimi izvajalci (JN za izbiro zunanjih izvajalcev se izvede v mesecu juniju 20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Predhodno preverjan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dokumentacije, na osnovi katere se projekt izvaja (vrsta in značilnosti posega, okoljska soglasja in dovoljenja, gradbena dovoljenja, it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polnitev kontrolnega lista z namenom ugotovitve, ali gre pri projektu za poseg, za katerega je treba izvesti PVO v skladu z direktivo o P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365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19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videntirano približno 5000 projektov iz OP ROPI in OP RR (od tega približno 418 infrastrukturnih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Ugotovitve: PVO izvedeno za 17 projektov, predhodno mnenje MKO izdano za 5 projektov, kar pomeni, da bo delo skupine osredotočeno na pregledu približno 396 proje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Nadaljnji pregled projektov se izvaja od primera do primera, tako bo do junija 2014 pregledanih približno 10 dodatnih projektov, kar je manj kot je bilo načrtov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Glavni razlogi za dosedanji zaostan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o marca skupina še ni delovala v polni sestavi (nekateri člani so začeli delovati šele marca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seg dokumentacije, ki jo je treba pregledati v fazi predhodnega preverja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1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1. faza (člani delovne skupine)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vo vmesno poročilo o pregledu projektov: 2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– 2. faza (člani delovne skupine)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drugo vmesno poročilo o pregledu projektov: 3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izvedba JN za zunanje izvajalce: junij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egled projektov od primera do primera – 2. faza (člani delovne skupine + zunanji izvajalci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retje vmesno poročilo o pregledu projektov: 4. kvartal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črt izvajanja aktivnosti za leto 2014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8572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Časovni načrt nadaljnje izvedbe aktivnosti (2. de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predloga ukrepov in smernic za zagotovitev skladnosti projektov (v sodelovanju z evropsko pobudo JASPERS): 3. in 4. kvartal 20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osredovanje predloga ukrepov in smernic EK (4. kvartal 201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iprava zaključnega poročila o delu delovne skupine: 1. kvartal 2015 oz. po usklajevanju predloga ukrepov in smernic z EK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Kako pospešiti delo članov skup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tenzivno vključevanje upravičencev (predstavniki upravičencev sodelujejo tudi na sestankih delovne skupine, npr s prestavitvijo projekt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upina je bila nekoliko preoblikovana in sedaj vključuje več ekspertov, ki lahko pokrivajo posamezne vseb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36160"/>
            <a:ext cx="844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ključevanje evropske pobude 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88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Z evropsko pobudo JASPERS je usklajen delovni načrt (Project fiche), ki predvid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občasno udeležbo predstavnika JASPERS na sestankih delovne skup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morebitnih sanacijskih ukrepov v primeru neskladnosti projektov z direktivo o P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pri pripravi smernic za učinkovito izvedbo predpresoje (screening) projekt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Sodelovanje s pobudo JASPERS je v teku in bo najbolj intenzivno v tretjem in četrten kvartalu 201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Gabriel Mezang Nkodo</cp:lastModifiedBy>
  <cp:lastPrinted>2014-05-19T08:07:01Z</cp:lastPrinted>
  <dcterms:modified xsi:type="dcterms:W3CDTF">2014-05-19T08:20:30Z</dcterms:modified>
  <cp:revision>52</cp:revision>
  <dc:subject/>
  <dc:title>Naslov</dc:title>
</cp:coreProperties>
</file>